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.jpeg" ContentType="image/jpeg"/>
  <Override PartName="/ppt/media/image6.wmf" ContentType="image/x-wmf"/>
  <Override PartName="/ppt/media/image7.wmf" ContentType="image/x-wmf"/>
  <Override PartName="/ppt/media/image29.jpeg" ContentType="image/jpeg"/>
  <Override PartName="/ppt/media/image8.jpeg" ContentType="image/jpeg"/>
  <Override PartName="/ppt/media/image10.jpeg" ContentType="image/jpeg"/>
  <Override PartName="/ppt/media/image13.wmf" ContentType="image/x-wmf"/>
  <Override PartName="/ppt/media/image28.wmf" ContentType="image/x-wmf"/>
  <Override PartName="/ppt/media/image3.jpeg" ContentType="image/jpeg"/>
  <Override PartName="/ppt/media/image30.png" ContentType="image/png"/>
  <Override PartName="/ppt/media/image12.jpeg" ContentType="image/jpeg"/>
  <Override PartName="/ppt/media/image4.png" ContentType="image/png"/>
  <Override PartName="/ppt/media/image11.wmf" ContentType="image/x-wmf"/>
  <Override PartName="/ppt/media/image5.jpeg" ContentType="image/jpeg"/>
  <Override PartName="/ppt/media/image9.png" ContentType="image/png"/>
  <Override PartName="/ppt/media/image31.png" ContentType="image/png"/>
  <Override PartName="/ppt/media/image14.wmf" ContentType="image/x-wmf"/>
  <Override PartName="/ppt/media/image1.jpeg" ContentType="image/jpeg"/>
  <Override PartName="/ppt/media/image15.wmf" ContentType="image/x-wmf"/>
  <Override PartName="/ppt/media/image16.jpeg" ContentType="image/jpeg"/>
  <Override PartName="/ppt/media/image17.png" ContentType="image/png"/>
  <Override PartName="/ppt/media/image18.jpeg" ContentType="image/jpeg"/>
  <Override PartName="/ppt/media/image20.jpeg" ContentType="image/jpeg"/>
  <Override PartName="/ppt/media/image19.png" ContentType="image/png"/>
  <Override PartName="/ppt/media/image21.png" ContentType="image/png"/>
  <Override PartName="/ppt/media/image24.jpeg" ContentType="image/jpeg"/>
  <Override PartName="/ppt/media/image22.png" ContentType="image/png"/>
  <Override PartName="/ppt/media/image23.wmf" ContentType="image/x-wmf"/>
  <Override PartName="/ppt/media/image25.jpeg" ContentType="image/jpeg"/>
  <Override PartName="/ppt/media/image26.wmf" ContentType="image/x-wmf"/>
  <Override PartName="/ppt/media/image27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D782A-495F-47B5-98AE-9AE72FE6B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E4A98-4F8F-4E7B-9A61-82296A7BE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2FDF7-1A8C-4B91-A70F-71C1EFF6D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85AFC-9A94-45C6-91C9-FF6CAB6A6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6D811-99B2-488C-AAF7-8147D3E84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095F6-E168-43AF-A55A-CC783C5B3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7FEED-37FD-47A5-ACB6-458746623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B3975-D6F2-4FFA-A578-6581D7448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49702-01B1-43A1-A57A-55C969BFD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5CF11-9572-41DA-85E3-96373307F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268B2-8084-496E-A376-EE3BB541A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9E3B7-30FF-4FA5-A71B-76573B4B1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FC7DE-2CB3-4947-8688-C54C6A26C2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slide2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Box 7"/>
          <p:cNvSpPr/>
          <p:nvPr/>
        </p:nvSpPr>
        <p:spPr>
          <a:xfrm>
            <a:off x="6781680" y="6400800"/>
            <a:ext cx="167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Helvetica Neue"/>
                <a:ea typeface="Helvetica Neue"/>
              </a:rPr>
              <a:t>Pr</a:t>
            </a:r>
            <a:r>
              <a:rPr b="1" lang="es-ES" sz="1000" spc="-1" strike="noStrike">
                <a:solidFill>
                  <a:srgbClr val="ffffff"/>
                </a:solidFill>
                <a:latin typeface="Helvetica Neue"/>
                <a:ea typeface="Helvetica Neue"/>
              </a:rPr>
              <a:t>éstamos Personal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8"/>
          <p:cNvSpPr/>
          <p:nvPr/>
        </p:nvSpPr>
        <p:spPr>
          <a:xfrm>
            <a:off x="8305920" y="6400800"/>
            <a:ext cx="38088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FE5D7-1E62-470A-AD6E-34D2F8AC365B}" type="slidenum">
              <a:rPr b="1" lang="en-US" sz="1000" spc="-1" strike="noStrike">
                <a:solidFill>
                  <a:srgbClr val="132f5a"/>
                </a:solidFill>
                <a:latin typeface="Helvetica Neu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9" descr="slide3.jpg"/>
          <p:cNvPicPr/>
          <p:nvPr/>
        </p:nvPicPr>
        <p:blipFill>
          <a:blip r:embed="rId3"/>
          <a:stretch/>
        </p:blipFill>
        <p:spPr>
          <a:xfrm>
            <a:off x="5943600" y="5346720"/>
            <a:ext cx="2720880" cy="673200"/>
          </a:xfrm>
          <a:prstGeom prst="rect">
            <a:avLst/>
          </a:prstGeom>
          <a:ln w="0">
            <a:noFill/>
          </a:ln>
        </p:spPr>
      </p:pic>
      <p:sp>
        <p:nvSpPr>
          <p:cNvPr id="45" name="TextBox 10"/>
          <p:cNvSpPr/>
          <p:nvPr/>
        </p:nvSpPr>
        <p:spPr>
          <a:xfrm>
            <a:off x="6480000" y="5638680"/>
            <a:ext cx="2514600" cy="231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1f497d"/>
                </a:solidFill>
                <a:latin typeface="Arial Rounded MT Bold"/>
              </a:rPr>
              <a:t>Programa de Educación Financiera FD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Loan To Own title slide with FDIC Money Smart logo and module logo including images of a car, boat, computer, diploma, and mortar boar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TextBox 4"/>
          <p:cNvSpPr/>
          <p:nvPr/>
        </p:nvSpPr>
        <p:spPr>
          <a:xfrm>
            <a:off x="0" y="838080"/>
            <a:ext cx="67816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Préstamos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6"/>
          <p:cNvSpPr/>
          <p:nvPr/>
        </p:nvSpPr>
        <p:spPr>
          <a:xfrm>
            <a:off x="152280" y="2027160"/>
            <a:ext cx="594360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8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Personales</a:t>
            </a:r>
            <a:endParaRPr b="0" lang="en-US" sz="7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8"/>
          <p:cNvSpPr/>
          <p:nvPr/>
        </p:nvSpPr>
        <p:spPr>
          <a:xfrm>
            <a:off x="1143000" y="5016600"/>
            <a:ext cx="41911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c1961c"/>
                </a:solidFill>
                <a:latin typeface="Arial Rounded MT Bold"/>
              </a:rPr>
              <a:t>Programa de Educación Financiera de la FD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</a:rPr>
              <a:t>El costo de préstamos en cuotas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33160" y="2179800"/>
            <a:ext cx="8458200" cy="35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132f5a"/>
                </a:solidFill>
                <a:latin typeface="Helvetica Neue"/>
              </a:rPr>
              <a:t>El monto de dólares que costará el préstamo, incluido: intereses, cargos de servicio y costos del préstamo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914400" indent="-40644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3993d"/>
                </a:solidFill>
                <a:latin typeface="Helvetica Neue"/>
              </a:rPr>
              <a:t>Respuesta: Cargos de financiación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14440" indent="-514440"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132f5a"/>
                </a:solidFill>
                <a:latin typeface="Helvetica Neue"/>
              </a:rPr>
              <a:t>Préstamo con tasa de interés que podría cambiar en cualquier momento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914400" indent="-40644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3993d"/>
                </a:solidFill>
                <a:latin typeface="Helvetica Neue"/>
              </a:rPr>
              <a:t>Respuesta: Préstamo con tasa variable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4" name="Folded Corner 5"/>
          <p:cNvSpPr/>
          <p:nvPr/>
        </p:nvSpPr>
        <p:spPr>
          <a:xfrm>
            <a:off x="457200" y="1066680"/>
            <a:ext cx="8153280" cy="990720"/>
          </a:xfrm>
          <a:prstGeom prst="foldedCorner">
            <a:avLst>
              <a:gd name="adj" fmla="val 16666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  <a:effectLst>
            <a:outerShdw dist="38183" dir="8100000" blurRad="0" rotWithShape="0">
              <a:srgbClr val="4f6228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Helvetica Neue"/>
              </a:rPr>
              <a:t>              </a:t>
            </a:r>
            <a:r>
              <a:rPr b="1" lang="en-US" sz="2500" spc="-1" strike="noStrike">
                <a:solidFill>
                  <a:srgbClr val="ffffff"/>
                </a:solidFill>
                <a:latin typeface="Helvetica Neue"/>
              </a:rPr>
              <a:t>APR</a:t>
            </a:r>
            <a:r>
              <a:rPr b="1" lang="en-US" sz="2500" spc="-1" strike="noStrike">
                <a:solidFill>
                  <a:srgbClr val="ffffff"/>
                </a:solidFill>
                <a:latin typeface="Helvetica Neue"/>
              </a:rPr>
              <a:t>	</a:t>
            </a:r>
            <a:r>
              <a:rPr b="1" lang="en-US" sz="2500" spc="-1" strike="noStrike">
                <a:solidFill>
                  <a:srgbClr val="ffffff"/>
                </a:solidFill>
                <a:latin typeface="Helvetica Neue"/>
              </a:rPr>
              <a:t>	</a:t>
            </a:r>
            <a:r>
              <a:rPr b="1" lang="en-US" sz="2500" spc="-1" strike="noStrike">
                <a:solidFill>
                  <a:srgbClr val="ffffff"/>
                </a:solidFill>
                <a:latin typeface="Helvetica Neue"/>
              </a:rPr>
              <a:t>	</a:t>
            </a:r>
            <a:r>
              <a:rPr b="1" lang="en-US" sz="2500" spc="-1" strike="noStrike">
                <a:solidFill>
                  <a:srgbClr val="ffffff"/>
                </a:solidFill>
                <a:latin typeface="Helvetica Neue"/>
              </a:rPr>
              <a:t>Préstamo con tasa fij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Helvetica Neue"/>
              </a:rPr>
              <a:t> </a:t>
            </a:r>
            <a:r>
              <a:rPr b="1" lang="en-US" sz="2500" spc="-1" strike="noStrike">
                <a:solidFill>
                  <a:srgbClr val="ffffff"/>
                </a:solidFill>
                <a:latin typeface="Helvetica Neue"/>
              </a:rPr>
              <a:t>Cargos de financiación</a:t>
            </a:r>
            <a:r>
              <a:rPr b="1" lang="en-US" sz="2500" spc="-1" strike="noStrike">
                <a:solidFill>
                  <a:srgbClr val="ffffff"/>
                </a:solidFill>
                <a:latin typeface="Helvetica Neue"/>
              </a:rPr>
              <a:t>	</a:t>
            </a:r>
            <a:r>
              <a:rPr b="1" lang="en-US" sz="2500" spc="-1" strike="noStrike">
                <a:solidFill>
                  <a:srgbClr val="ffffff"/>
                </a:solidFill>
                <a:latin typeface="Helvetica Neue"/>
              </a:rPr>
              <a:t>  Préstamo con tasa variabl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</a:rPr>
              <a:t>El costo de préstamos en cuotas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160" y="2179800"/>
            <a:ext cx="8458200" cy="35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51"/>
              </a:spcBef>
              <a:buClr>
                <a:srgbClr val="132f5a"/>
              </a:buClr>
              <a:buFont typeface="Helvetica Neue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El costo de tomar dinero prestado calculado por año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lvl="1" marL="914400" indent="-406440">
              <a:spcBef>
                <a:spcPts val="7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3993d"/>
                </a:solidFill>
                <a:latin typeface="Helvetica Neue"/>
              </a:rPr>
              <a:t>Respuesta: APR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514440" indent="-514440">
              <a:spcBef>
                <a:spcPts val="751"/>
              </a:spcBef>
              <a:buClr>
                <a:srgbClr val="132f5a"/>
              </a:buClr>
              <a:buFont typeface="Helvetica Neue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Préstamo con tasa de interés igual a lo largo de la duración del préstamo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lvl="1" marL="914400" indent="-406440">
              <a:spcBef>
                <a:spcPts val="7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53993d"/>
                </a:solidFill>
                <a:latin typeface="Helvetica Neue"/>
              </a:rPr>
              <a:t>Respuesta: Préstamo con tasa fija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7" name="Folded Corner 5"/>
          <p:cNvSpPr/>
          <p:nvPr/>
        </p:nvSpPr>
        <p:spPr>
          <a:xfrm>
            <a:off x="457200" y="1066680"/>
            <a:ext cx="8153280" cy="990720"/>
          </a:xfrm>
          <a:prstGeom prst="foldedCorner">
            <a:avLst>
              <a:gd name="adj" fmla="val 16666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  <a:effectLst>
            <a:outerShdw dist="38183" dir="8100000" blurRad="0" rotWithShape="0">
              <a:srgbClr val="4f6228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Helvetica Neue"/>
              </a:rPr>
              <a:t>              </a:t>
            </a:r>
            <a:r>
              <a:rPr b="1" lang="en-US" sz="2500" spc="-1" strike="noStrike">
                <a:solidFill>
                  <a:srgbClr val="ffffff"/>
                </a:solidFill>
                <a:latin typeface="Helvetica Neue"/>
              </a:rPr>
              <a:t>APR</a:t>
            </a:r>
            <a:r>
              <a:rPr b="1" lang="en-US" sz="2500" spc="-1" strike="noStrike">
                <a:solidFill>
                  <a:srgbClr val="ffffff"/>
                </a:solidFill>
                <a:latin typeface="Helvetica Neue"/>
              </a:rPr>
              <a:t>	</a:t>
            </a:r>
            <a:r>
              <a:rPr b="1" lang="en-US" sz="2500" spc="-1" strike="noStrike">
                <a:solidFill>
                  <a:srgbClr val="ffffff"/>
                </a:solidFill>
                <a:latin typeface="Helvetica Neue"/>
              </a:rPr>
              <a:t>	</a:t>
            </a:r>
            <a:r>
              <a:rPr b="1" lang="en-US" sz="2500" spc="-1" strike="noStrike">
                <a:solidFill>
                  <a:srgbClr val="ffffff"/>
                </a:solidFill>
                <a:latin typeface="Helvetica Neue"/>
              </a:rPr>
              <a:t>	</a:t>
            </a:r>
            <a:r>
              <a:rPr b="1" lang="en-US" sz="2500" spc="-1" strike="noStrike">
                <a:solidFill>
                  <a:srgbClr val="ffffff"/>
                </a:solidFill>
                <a:latin typeface="Helvetica Neue"/>
              </a:rPr>
              <a:t>Préstamo con tasa fij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Helvetica Neue"/>
              </a:rPr>
              <a:t> </a:t>
            </a:r>
            <a:r>
              <a:rPr b="1" lang="en-US" sz="2500" spc="-1" strike="noStrike">
                <a:solidFill>
                  <a:srgbClr val="ffffff"/>
                </a:solidFill>
                <a:latin typeface="Helvetica Neue"/>
              </a:rPr>
              <a:t>Cargos de financiación</a:t>
            </a:r>
            <a:r>
              <a:rPr b="1" lang="en-US" sz="2500" spc="-1" strike="noStrike">
                <a:solidFill>
                  <a:srgbClr val="ffffff"/>
                </a:solidFill>
                <a:latin typeface="Helvetica Neue"/>
              </a:rPr>
              <a:t>	</a:t>
            </a:r>
            <a:r>
              <a:rPr b="1" lang="en-US" sz="2500" spc="-1" strike="noStrike">
                <a:solidFill>
                  <a:srgbClr val="ffffff"/>
                </a:solidFill>
                <a:latin typeface="Helvetica Neue"/>
              </a:rPr>
              <a:t>  Préstamo con tasa variabl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Identifique el término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533520" y="2361960"/>
            <a:ext cx="822960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132f5a"/>
                </a:solidFill>
                <a:latin typeface="Helvetica Neue"/>
              </a:rPr>
              <a:t>Estefanía pide un préstamo para un auto con una tasa de interés del 10% y paga $100 en costos de solicitud del préstamo. ¿Qué término relacionado a los préstamos refleja el interés más el costo de la solicitud?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907920" indent="-4507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3993d"/>
                </a:solidFill>
                <a:latin typeface="Helvetica Neue"/>
              </a:rPr>
              <a:t>Respuesta: APR</a:t>
            </a:r>
            <a:r>
              <a:rPr b="0" lang="en-US" sz="3000" spc="-1" strike="noStrike">
                <a:solidFill>
                  <a:srgbClr val="132f5a"/>
                </a:solidFill>
                <a:latin typeface="Helvetica Neue"/>
              </a:rPr>
              <a:t>	</a:t>
            </a:r>
            <a:r>
              <a:rPr b="0" lang="en-US" sz="2600" spc="-1" strike="noStrike">
                <a:solidFill>
                  <a:srgbClr val="132f5a"/>
                </a:solidFill>
                <a:latin typeface="Helvetica Neue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0" name="Folded Corner 4"/>
          <p:cNvSpPr/>
          <p:nvPr/>
        </p:nvSpPr>
        <p:spPr>
          <a:xfrm>
            <a:off x="457200" y="1066680"/>
            <a:ext cx="8153280" cy="990720"/>
          </a:xfrm>
          <a:prstGeom prst="foldedCorner">
            <a:avLst>
              <a:gd name="adj" fmla="val 16666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  <a:effectLst>
            <a:outerShdw dist="38183" dir="8100000" blurRad="0" rotWithShape="0">
              <a:srgbClr val="4f6228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Helvetica Neue"/>
              </a:rPr>
              <a:t>              </a:t>
            </a:r>
            <a:r>
              <a:rPr b="1" lang="en-US" sz="2500" spc="-1" strike="noStrike">
                <a:solidFill>
                  <a:srgbClr val="ffffff"/>
                </a:solidFill>
                <a:latin typeface="Helvetica Neue"/>
              </a:rPr>
              <a:t>APR</a:t>
            </a:r>
            <a:r>
              <a:rPr b="1" lang="en-US" sz="2500" spc="-1" strike="noStrike">
                <a:solidFill>
                  <a:srgbClr val="ffffff"/>
                </a:solidFill>
                <a:latin typeface="Helvetica Neue"/>
              </a:rPr>
              <a:t>	</a:t>
            </a:r>
            <a:r>
              <a:rPr b="1" lang="en-US" sz="2500" spc="-1" strike="noStrike">
                <a:solidFill>
                  <a:srgbClr val="ffffff"/>
                </a:solidFill>
                <a:latin typeface="Helvetica Neue"/>
              </a:rPr>
              <a:t>	</a:t>
            </a:r>
            <a:r>
              <a:rPr b="1" lang="en-US" sz="2500" spc="-1" strike="noStrike">
                <a:solidFill>
                  <a:srgbClr val="ffffff"/>
                </a:solidFill>
                <a:latin typeface="Helvetica Neue"/>
              </a:rPr>
              <a:t>	</a:t>
            </a:r>
            <a:r>
              <a:rPr b="1" lang="en-US" sz="2500" spc="-1" strike="noStrike">
                <a:solidFill>
                  <a:srgbClr val="ffffff"/>
                </a:solidFill>
                <a:latin typeface="Helvetica Neue"/>
              </a:rPr>
              <a:t>Préstamo con tasa fij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Helvetica Neue"/>
              </a:rPr>
              <a:t> </a:t>
            </a:r>
            <a:r>
              <a:rPr b="1" lang="en-US" sz="2500" spc="-1" strike="noStrike">
                <a:solidFill>
                  <a:srgbClr val="ffffff"/>
                </a:solidFill>
                <a:latin typeface="Helvetica Neue"/>
              </a:rPr>
              <a:t>Cargos de financiación</a:t>
            </a:r>
            <a:r>
              <a:rPr b="1" lang="en-US" sz="2500" spc="-1" strike="noStrike">
                <a:solidFill>
                  <a:srgbClr val="ffffff"/>
                </a:solidFill>
                <a:latin typeface="Helvetica Neue"/>
              </a:rPr>
              <a:t>	</a:t>
            </a:r>
            <a:r>
              <a:rPr b="1" lang="en-US" sz="2500" spc="-1" strike="noStrike">
                <a:solidFill>
                  <a:srgbClr val="ffffff"/>
                </a:solidFill>
                <a:latin typeface="Helvetica Neue"/>
              </a:rPr>
              <a:t>  Préstamo con tasa variabl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Identifique el término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33520" y="2362320"/>
            <a:ext cx="82296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132f5a"/>
                </a:solidFill>
                <a:latin typeface="Arial"/>
              </a:rPr>
              <a:t>Miguel pide un préstamo para comprar una computadora. ¿Qué termino relacionado a los préstamos describe mejor este tipo de préstamo</a:t>
            </a:r>
            <a:r>
              <a:rPr b="1" lang="en-US" sz="2800" spc="-1" strike="noStrike">
                <a:solidFill>
                  <a:srgbClr val="132f5a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907920" indent="-45072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53993d"/>
                </a:solidFill>
                <a:latin typeface="Arial"/>
              </a:rPr>
              <a:t>Respuesta: Préstamo con tasa fija</a:t>
            </a:r>
            <a:r>
              <a:rPr b="0" lang="en-US" sz="2600" spc="-1" strike="noStrike">
                <a:solidFill>
                  <a:srgbClr val="132f5a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3" name="Folded Corner 4"/>
          <p:cNvSpPr/>
          <p:nvPr/>
        </p:nvSpPr>
        <p:spPr>
          <a:xfrm>
            <a:off x="685800" y="1066680"/>
            <a:ext cx="7772400" cy="990720"/>
          </a:xfrm>
          <a:prstGeom prst="foldedCorner">
            <a:avLst>
              <a:gd name="adj" fmla="val 16666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  <a:effectLst>
            <a:outerShdw dist="38183" dir="8100000" blurRad="0" rotWithShape="0">
              <a:srgbClr val="4f6228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Helvetica Neue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Helvetica Neue"/>
              </a:rPr>
              <a:t>APR</a:t>
            </a:r>
            <a:r>
              <a:rPr b="1" lang="en-US" sz="2800" spc="-1" strike="noStrike">
                <a:solidFill>
                  <a:srgbClr val="ffffff"/>
                </a:solidFill>
                <a:latin typeface="Helvetica Neue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Helvetica Neue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Helvetica Neue"/>
              </a:rPr>
              <a:t>Fixed-rate lo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Helvetica Neue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Helvetica Neue"/>
              </a:rPr>
              <a:t>Finance Charges</a:t>
            </a:r>
            <a:r>
              <a:rPr b="1" lang="en-US" sz="2800" spc="-1" strike="noStrike">
                <a:solidFill>
                  <a:srgbClr val="ffffff"/>
                </a:solidFill>
                <a:latin typeface="Helvetica Neue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Helvetica Neue"/>
              </a:rPr>
              <a:t>Variable-rate lo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Folded Corner 5"/>
          <p:cNvSpPr/>
          <p:nvPr/>
        </p:nvSpPr>
        <p:spPr>
          <a:xfrm>
            <a:off x="457200" y="1066680"/>
            <a:ext cx="8153280" cy="990720"/>
          </a:xfrm>
          <a:prstGeom prst="foldedCorner">
            <a:avLst>
              <a:gd name="adj" fmla="val 16666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  <a:effectLst>
            <a:outerShdw dist="38183" dir="8100000" blurRad="0" rotWithShape="0">
              <a:srgbClr val="4f6228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Helvetica Neue"/>
              </a:rPr>
              <a:t>              </a:t>
            </a:r>
            <a:r>
              <a:rPr b="1" lang="en-US" sz="2500" spc="-1" strike="noStrike">
                <a:solidFill>
                  <a:srgbClr val="ffffff"/>
                </a:solidFill>
                <a:latin typeface="Helvetica Neue"/>
              </a:rPr>
              <a:t>APR</a:t>
            </a:r>
            <a:r>
              <a:rPr b="1" lang="en-US" sz="2500" spc="-1" strike="noStrike">
                <a:solidFill>
                  <a:srgbClr val="ffffff"/>
                </a:solidFill>
                <a:latin typeface="Helvetica Neue"/>
              </a:rPr>
              <a:t>	</a:t>
            </a:r>
            <a:r>
              <a:rPr b="1" lang="en-US" sz="2500" spc="-1" strike="noStrike">
                <a:solidFill>
                  <a:srgbClr val="ffffff"/>
                </a:solidFill>
                <a:latin typeface="Helvetica Neue"/>
              </a:rPr>
              <a:t>	</a:t>
            </a:r>
            <a:r>
              <a:rPr b="1" lang="en-US" sz="2500" spc="-1" strike="noStrike">
                <a:solidFill>
                  <a:srgbClr val="ffffff"/>
                </a:solidFill>
                <a:latin typeface="Helvetica Neue"/>
              </a:rPr>
              <a:t>	</a:t>
            </a:r>
            <a:r>
              <a:rPr b="1" lang="en-US" sz="2500" spc="-1" strike="noStrike">
                <a:solidFill>
                  <a:srgbClr val="ffffff"/>
                </a:solidFill>
                <a:latin typeface="Helvetica Neue"/>
              </a:rPr>
              <a:t>Préstamo con tasa fij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Helvetica Neue"/>
              </a:rPr>
              <a:t> </a:t>
            </a:r>
            <a:r>
              <a:rPr b="1" lang="en-US" sz="2500" spc="-1" strike="noStrike">
                <a:solidFill>
                  <a:srgbClr val="ffffff"/>
                </a:solidFill>
                <a:latin typeface="Helvetica Neue"/>
              </a:rPr>
              <a:t>Cargos de financiación</a:t>
            </a:r>
            <a:r>
              <a:rPr b="1" lang="en-US" sz="2500" spc="-1" strike="noStrike">
                <a:solidFill>
                  <a:srgbClr val="ffffff"/>
                </a:solidFill>
                <a:latin typeface="Helvetica Neue"/>
              </a:rPr>
              <a:t>	</a:t>
            </a:r>
            <a:r>
              <a:rPr b="1" lang="en-US" sz="2500" spc="-1" strike="noStrike">
                <a:solidFill>
                  <a:srgbClr val="ffffff"/>
                </a:solidFill>
                <a:latin typeface="Helvetica Neue"/>
              </a:rPr>
              <a:t>  Préstamo con tasa variabl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Identifique el término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533160" y="2361960"/>
            <a:ext cx="8381880" cy="414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51"/>
              </a:spcBef>
              <a:buClr>
                <a:srgbClr val="132f5a"/>
              </a:buClr>
              <a:buFont typeface="Helvetica Neue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Kevin pide un préstamo para un automóvil. Debe pagar $3,000 en intereses, cargos de servicio y costos de la aplicación. ¿Qué términos relacionados a los préstamos describen estos costos?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lvl="1" marL="907920" indent="-45072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3993d"/>
                </a:solidFill>
                <a:latin typeface="Helvetica Neue"/>
              </a:rPr>
              <a:t>Respuesta: Préstamo con tasa variable, cargos de financiación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7" name="Folded Corner 5"/>
          <p:cNvSpPr/>
          <p:nvPr/>
        </p:nvSpPr>
        <p:spPr>
          <a:xfrm>
            <a:off x="457200" y="1066680"/>
            <a:ext cx="8153280" cy="990720"/>
          </a:xfrm>
          <a:prstGeom prst="foldedCorner">
            <a:avLst>
              <a:gd name="adj" fmla="val 16666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  <a:effectLst>
            <a:outerShdw dist="38183" dir="8100000" blurRad="0" rotWithShape="0">
              <a:srgbClr val="4f6228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Helvetica Neue"/>
              </a:rPr>
              <a:t>              </a:t>
            </a:r>
            <a:r>
              <a:rPr b="1" lang="en-US" sz="2500" spc="-1" strike="noStrike">
                <a:solidFill>
                  <a:srgbClr val="ffffff"/>
                </a:solidFill>
                <a:latin typeface="Helvetica Neue"/>
              </a:rPr>
              <a:t>APR</a:t>
            </a:r>
            <a:r>
              <a:rPr b="1" lang="en-US" sz="2500" spc="-1" strike="noStrike">
                <a:solidFill>
                  <a:srgbClr val="ffffff"/>
                </a:solidFill>
                <a:latin typeface="Helvetica Neue"/>
              </a:rPr>
              <a:t>	</a:t>
            </a:r>
            <a:r>
              <a:rPr b="1" lang="en-US" sz="2500" spc="-1" strike="noStrike">
                <a:solidFill>
                  <a:srgbClr val="ffffff"/>
                </a:solidFill>
                <a:latin typeface="Helvetica Neue"/>
              </a:rPr>
              <a:t>	</a:t>
            </a:r>
            <a:r>
              <a:rPr b="1" lang="en-US" sz="2500" spc="-1" strike="noStrike">
                <a:solidFill>
                  <a:srgbClr val="ffffff"/>
                </a:solidFill>
                <a:latin typeface="Helvetica Neue"/>
              </a:rPr>
              <a:t>	</a:t>
            </a:r>
            <a:r>
              <a:rPr b="1" lang="en-US" sz="2500" spc="-1" strike="noStrike">
                <a:solidFill>
                  <a:srgbClr val="ffffff"/>
                </a:solidFill>
                <a:latin typeface="Helvetica Neue"/>
              </a:rPr>
              <a:t>Préstamo con tasa fij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Helvetica Neue"/>
              </a:rPr>
              <a:t> </a:t>
            </a:r>
            <a:r>
              <a:rPr b="1" lang="en-US" sz="2500" spc="-1" strike="noStrike">
                <a:solidFill>
                  <a:srgbClr val="ffffff"/>
                </a:solidFill>
                <a:latin typeface="Helvetica Neue"/>
              </a:rPr>
              <a:t>Cargos de financiación</a:t>
            </a:r>
            <a:r>
              <a:rPr b="1" lang="en-US" sz="2500" spc="-1" strike="noStrike">
                <a:solidFill>
                  <a:srgbClr val="ffffff"/>
                </a:solidFill>
                <a:latin typeface="Helvetica Neue"/>
              </a:rPr>
              <a:t>	</a:t>
            </a:r>
            <a:r>
              <a:rPr b="1" lang="en-US" sz="2500" spc="-1" strike="noStrike">
                <a:solidFill>
                  <a:srgbClr val="ffffff"/>
                </a:solidFill>
                <a:latin typeface="Helvetica Neue"/>
              </a:rPr>
              <a:t>  Préstamo con tasa variabl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6868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</a:rPr>
              <a:t>¿Por qué prefieren los prestamistas dar préstamos en cuotas?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4520">
              <a:spcBef>
                <a:spcPts val="275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Monto de cada pago mensual y periodo de amortización claros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Tasas más bajas que las tarjetas de crédito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Saldos del préstamo más bajos durante el plazo del préstamo porque el pago incluye el capital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Comprar o arrendar un auto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35160" indent="-33048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35160" indent="-33048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¿Cuáles son algunas preguntas que debería hacerse cuando busca un auto?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lvl="1" marL="713160" indent="-27432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</a:rPr>
              <a:t>¿Debería comprarme un auto nuevo o usado?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13160" indent="-27432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¿Debería comprar o arrendar?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13160" indent="-27432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¿Cuánto puedo pagar?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13160" indent="-27432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</a:rPr>
              <a:t>¿Debería intentar canjearlo por mi auto viejo?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132" name="Picture 11" descr="Blue car"/>
          <p:cNvPicPr/>
          <p:nvPr/>
        </p:nvPicPr>
        <p:blipFill>
          <a:blip r:embed="rId1"/>
          <a:stretch/>
        </p:blipFill>
        <p:spPr>
          <a:xfrm>
            <a:off x="6629400" y="274320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Préstamos para autos versus arrendamiento de autos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7200" y="1722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452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Tenga en cuenta: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</a:rPr>
              <a:t>El potencial de ser propietario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El desgaste por uso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Los pagos mensuales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Límite de kilometraje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El seguro del automóvil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Costo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135" name="Picture 2" descr="Couple looking at a sticker on a car in car sales lot"/>
          <p:cNvPicPr/>
          <p:nvPr/>
        </p:nvPicPr>
        <p:blipFill>
          <a:blip r:embed="rId1"/>
          <a:stretch/>
        </p:blipFill>
        <p:spPr>
          <a:xfrm>
            <a:off x="6248520" y="1601640"/>
            <a:ext cx="2133360" cy="319896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Financiar un auto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7960" indent="-323640">
              <a:spcBef>
                <a:spcPts val="275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Helvetica Neue"/>
            </a:endParaRPr>
          </a:p>
          <a:p>
            <a:pPr marL="327960" indent="-323640"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El auto es la garantía para el préstamo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27960" indent="-323640"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La escritura indica quién es el propietario del auto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27960" indent="-323640"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Cuando esté pensando en un préstamo de auto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lvl="1" marL="698400" indent="-268560"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Sepa el costo y cuánto debe tomar prestado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698400" indent="-268560"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Busque la mejor oferta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27960" indent="-323640">
              <a:spcBef>
                <a:spcPts val="79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138" name="Picture 4" descr="Car and loan paperwork"/>
          <p:cNvPicPr/>
          <p:nvPr/>
        </p:nvPicPr>
        <p:blipFill>
          <a:blip r:embed="rId1"/>
          <a:stretch/>
        </p:blipFill>
        <p:spPr>
          <a:xfrm>
            <a:off x="7318440" y="304920"/>
            <a:ext cx="1825560" cy="140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</a:rPr>
              <a:t>Dónde obtener préstamos de auto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8380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452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Bancos/entidades de ahorro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Cooperativas de crédito 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Compañías financieras 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Concesionarios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141" name="Picture 5" descr="Lender reviewing paperwork with a couple"/>
          <p:cNvPicPr/>
          <p:nvPr/>
        </p:nvPicPr>
        <p:blipFill>
          <a:blip r:embed="rId1"/>
          <a:stretch/>
        </p:blipFill>
        <p:spPr>
          <a:xfrm>
            <a:off x="5410080" y="2057400"/>
            <a:ext cx="2667240" cy="26668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Bienvenidos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191120" y="2057400"/>
            <a:ext cx="449568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51"/>
              </a:spcBef>
              <a:spcAft>
                <a:spcPts val="24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Agenda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514440" indent="-514440">
              <a:spcBef>
                <a:spcPts val="751"/>
              </a:spcBef>
              <a:spcAft>
                <a:spcPts val="24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Normas básicas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514440" indent="-514440">
              <a:spcBef>
                <a:spcPts val="751"/>
              </a:spcBef>
              <a:spcAft>
                <a:spcPts val="24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Presentaciones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514440" indent="-51444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92" name="Picture 1" descr="Handshake"/>
          <p:cNvPicPr/>
          <p:nvPr/>
        </p:nvPicPr>
        <p:blipFill>
          <a:blip r:embed="rId1"/>
          <a:stretch/>
        </p:blipFill>
        <p:spPr>
          <a:xfrm>
            <a:off x="304920" y="1905120"/>
            <a:ext cx="3429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6868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Arial"/>
              </a:rPr>
              <a:t>Cuando los prestamistas ofrecen tasas de interés bajas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452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La mejor oferta puede requerir: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Mucho dinero de entrada 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</a:rPr>
              <a:t>Un plazo corto para el préstamo (3 años o menos)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Historial crediticio excelente 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Costo de participación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144" name="Picture 4" descr="Dollar sign"/>
          <p:cNvPicPr/>
          <p:nvPr/>
        </p:nvPicPr>
        <p:blipFill>
          <a:blip r:embed="rId1"/>
          <a:stretch/>
        </p:blipFill>
        <p:spPr>
          <a:xfrm>
            <a:off x="7315200" y="3124080"/>
            <a:ext cx="1500120" cy="150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Tasas de interés bajas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452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Pregunte por: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El precio de una financiación con tasa baja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Las ventajas de pagar con dinero/usar su propia financiación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El pago de entrada requerido 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</a:rPr>
              <a:t>Los límites en la duración del préstamo 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</a:rPr>
              <a:t>Pagos de saldo al vencimiento</a:t>
            </a: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, si se deben al final del préstamo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9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147" name="Picture 6" descr="Question mark"/>
          <p:cNvPicPr/>
          <p:nvPr/>
        </p:nvPicPr>
        <p:blipFill>
          <a:blip r:embed="rId1"/>
          <a:stretch/>
        </p:blipFill>
        <p:spPr>
          <a:xfrm>
            <a:off x="7323120" y="457200"/>
            <a:ext cx="1515960" cy="12193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Promociones especiales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53352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452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Pregunte por: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Valor de canjeo 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Límites en ofertas especiales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El significado del recibo del concesionario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9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150" name="Picture 7" descr="Car salesman "/>
          <p:cNvPicPr/>
          <p:nvPr/>
        </p:nvPicPr>
        <p:blipFill>
          <a:blip r:embed="rId1"/>
          <a:stretch/>
        </p:blipFill>
        <p:spPr>
          <a:xfrm>
            <a:off x="6781680" y="1447920"/>
            <a:ext cx="1684440" cy="18270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Contratos de servicio para vehículos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4520">
              <a:lnSpc>
                <a:spcPct val="9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Una promesa de realizar (o de pagar) ciertas reparaciones o servicios.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lnSpc>
                <a:spcPct val="9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Haga preguntas antes de comprar contratos de servicio de vehículos.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153" name="Picture 9" descr="Car salesman helping a couple purchase a car"/>
          <p:cNvPicPr/>
          <p:nvPr/>
        </p:nvPicPr>
        <p:blipFill>
          <a:blip r:embed="rId1"/>
          <a:stretch/>
        </p:blipFill>
        <p:spPr>
          <a:xfrm>
            <a:off x="3581280" y="3048120"/>
            <a:ext cx="2132280" cy="213336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384120"/>
            <a:ext cx="86868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400" spc="-1" strike="noStrike">
                <a:solidFill>
                  <a:srgbClr val="c1961c"/>
                </a:solidFill>
                <a:latin typeface="Helvetica Neue"/>
              </a:rPr>
              <a:t>Vehículo usado: Protección con garantía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3352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452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Busque la pegatina en el auto que ponga Buyer's Guide (Guía del Comprador) para averiguar si el vehículo se vende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Con una garantía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Con garantías implícitas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“</a:t>
            </a: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Tal como está” 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156" name="Picture 1" descr="Buyer's Guide sticker with As Is-No Warranty or Warranty options"/>
          <p:cNvPicPr/>
          <p:nvPr/>
        </p:nvPicPr>
        <p:blipFill>
          <a:blip r:embed="rId1"/>
          <a:stretch/>
        </p:blipFill>
        <p:spPr>
          <a:xfrm>
            <a:off x="5562720" y="2577960"/>
            <a:ext cx="3200400" cy="260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4" descr="Hybrid car with cord to charge it"/>
          <p:cNvPicPr/>
          <p:nvPr/>
        </p:nvPicPr>
        <p:blipFill>
          <a:blip r:embed="rId1"/>
          <a:stretch/>
        </p:blipFill>
        <p:spPr>
          <a:xfrm>
            <a:off x="0" y="4513320"/>
            <a:ext cx="2438280" cy="162540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384120"/>
            <a:ext cx="838188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Vehículos de combustible alternativo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6840" y="1218960"/>
            <a:ext cx="80773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452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Antes de comprar o arrendar, piense en: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</a:rPr>
              <a:t>El tipo de combustible y la disponibilidad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Los costos operativos 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Rendimiento/conveniencia 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Seguridad/energía renovable 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Emisiones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400" spc="-1" strike="noStrike">
                <a:solidFill>
                  <a:srgbClr val="c1961c"/>
                </a:solidFill>
                <a:latin typeface="Helvetica Neue"/>
              </a:rPr>
              <a:t>Actividad 1: Cuidado con relaciones entre concesionarios y prestamistas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57200" y="99072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8400" indent="-334080"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38400" indent="-334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Realice la Actividad 1 en la Guía para los Participantes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. 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lvl="3" marL="1773720" indent="-498960"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Lea de cerca la situación planteada.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3" marL="1773720" indent="-498960"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Escriba algunas cosas que Sam podría haber hecho de manera diferente.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3" marL="1773720" indent="-498960"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</a:rPr>
              <a:t>Esté preparado para explicar sus respuestas.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162" name="Picture 4" descr="Pencil"/>
          <p:cNvPicPr/>
          <p:nvPr/>
        </p:nvPicPr>
        <p:blipFill>
          <a:blip r:embed="rId1"/>
          <a:stretch/>
        </p:blipFill>
        <p:spPr>
          <a:xfrm>
            <a:off x="0" y="2895480"/>
            <a:ext cx="161928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Organizar un préstamo de automóvil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063800"/>
            <a:ext cx="86868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8400" indent="-33408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Arial"/>
              </a:rPr>
              <a:t>Pague lo más que pueda de entrada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38400" indent="-33408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Tenga en cuenta el costo total del préstamo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:</a:t>
            </a:r>
            <a:r>
              <a:rPr b="1" lang="en-US" sz="3000" spc="-1" strike="noStrike">
                <a:solidFill>
                  <a:srgbClr val="132f5a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lvl="1" marL="720720" indent="-27720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Ejemplo: $15,000 al 4% de interés durante </a:t>
            </a:r>
            <a:r>
              <a:rPr b="1" lang="en-US" sz="2800" spc="-1" strike="noStrike">
                <a:solidFill>
                  <a:srgbClr val="0000ff"/>
                </a:solidFill>
                <a:latin typeface="Helvetica Neue"/>
              </a:rPr>
              <a:t>36</a:t>
            </a: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 meses = </a:t>
            </a:r>
            <a:r>
              <a:rPr b="1" lang="en-US" sz="2800" spc="-1" strike="noStrike">
                <a:solidFill>
                  <a:srgbClr val="0000ff"/>
                </a:solidFill>
                <a:latin typeface="Helvetica Neue"/>
              </a:rPr>
              <a:t>$443 </a:t>
            </a:r>
            <a:r>
              <a:rPr b="0" lang="en-US" sz="2800" spc="-1" strike="noStrike">
                <a:solidFill>
                  <a:srgbClr val="252e4e"/>
                </a:solidFill>
                <a:latin typeface="Helvetica Neue"/>
              </a:rPr>
              <a:t>versus </a:t>
            </a:r>
            <a:r>
              <a:rPr b="1" lang="en-US" sz="2800" spc="-1" strike="noStrike">
                <a:solidFill>
                  <a:srgbClr val="0000ff"/>
                </a:solidFill>
                <a:latin typeface="Helvetica Neue"/>
              </a:rPr>
              <a:t>48</a:t>
            </a: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 meses = </a:t>
            </a:r>
            <a:r>
              <a:rPr b="1" lang="en-US" sz="2800" spc="-1" strike="noStrike">
                <a:solidFill>
                  <a:srgbClr val="0000ff"/>
                </a:solidFill>
                <a:latin typeface="Helvetica Neue"/>
              </a:rPr>
              <a:t>$339 </a:t>
            </a: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al mes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20720" indent="-277200">
              <a:spcBef>
                <a:spcPts val="700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Costo total: </a:t>
            </a:r>
            <a:r>
              <a:rPr b="1" lang="en-US" sz="2800" spc="-1" strike="noStrike">
                <a:solidFill>
                  <a:srgbClr val="0000ff"/>
                </a:solidFill>
                <a:latin typeface="Helvetica Neue"/>
              </a:rPr>
              <a:t>$15,948 versus $16,272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38400" indent="-33408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Tenga cuidado con los préstamos de auto que duren 5 años o más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</a:rPr>
              <a:t>Tenga cuidado con los préstamos que usan la escritura  del auto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56840" y="1447920"/>
            <a:ext cx="853452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45600" indent="-340920">
              <a:spcBef>
                <a:spcPts val="700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Se arriesga a perder su auto si no puede pagar.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45600" indent="-340920">
              <a:spcBef>
                <a:spcPts val="700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Pueden ser préstamos costosos.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45600" indent="-34092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Ejemplo: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35480" indent="-28296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Arial"/>
              </a:rPr>
              <a:t>1</a:t>
            </a:r>
            <a:r>
              <a:rPr b="0" lang="en-US" sz="2800" spc="-1" strike="noStrike" baseline="30000">
                <a:solidFill>
                  <a:srgbClr val="132f5a"/>
                </a:solidFill>
                <a:latin typeface="Arial"/>
              </a:rPr>
              <a:t>er</a:t>
            </a:r>
            <a:r>
              <a:rPr b="0" lang="en-US" sz="2800" spc="-1" strike="noStrike">
                <a:solidFill>
                  <a:srgbClr val="132f5a"/>
                </a:solidFill>
                <a:latin typeface="Arial"/>
              </a:rPr>
              <a:t> mes: préstamo de $500 + $100 en intereses ($500 x 20%) = $600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35480" indent="-28296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Arial"/>
              </a:rPr>
              <a:t>1 año: préstamo de $500 + $1,200 en intereses ($110 x 12) = 240% APR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45600" indent="-34092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5600" indent="-34092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Capital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6840" y="990720"/>
            <a:ext cx="80010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452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El valor de la vivienda menos la deuda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Un </a:t>
            </a:r>
            <a:r>
              <a:rPr b="1" i="1" lang="en-US" sz="3000" spc="-1" strike="noStrike">
                <a:solidFill>
                  <a:srgbClr val="b08830"/>
                </a:solidFill>
                <a:latin typeface="Helvetica Neue"/>
              </a:rPr>
              <a:t>préstamo sobre el capital de la vivienda </a:t>
            </a: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le permite tomar dinero prestado contra el valor de su casa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. 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9" name="Rounded Rectangle 4"/>
          <p:cNvSpPr/>
          <p:nvPr/>
        </p:nvSpPr>
        <p:spPr>
          <a:xfrm>
            <a:off x="1600200" y="1828800"/>
            <a:ext cx="5943600" cy="1676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alor de la vivienda $250,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enos la deuda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- 180,000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pital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$ 70,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Objetivos</a:t>
            </a:r>
            <a:r>
              <a:rPr b="1" lang="en-US" sz="3600" spc="-1" strike="noStrike">
                <a:solidFill>
                  <a:srgbClr val="c1961c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533520" y="1019160"/>
            <a:ext cx="85341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700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132f5a"/>
                </a:solidFill>
                <a:latin typeface="Helvetica Neue"/>
              </a:rPr>
              <a:t>Identificar tipos de préstamos en cuotas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9200">
              <a:spcBef>
                <a:spcPts val="700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132f5a"/>
                </a:solidFill>
                <a:latin typeface="Helvetica Neue"/>
              </a:rPr>
              <a:t>Identificar los factores que usan los prestamistas para tomar decisiones sobre préstamos de vivienda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9200">
              <a:spcBef>
                <a:spcPts val="700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132f5a"/>
                </a:solidFill>
                <a:latin typeface="Helvetica Neue"/>
              </a:rPr>
              <a:t>Identificar cómo las leyes federales les protegen cuando solicitan un préstamo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9200">
              <a:spcBef>
                <a:spcPts val="700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132f5a"/>
                </a:solidFill>
                <a:latin typeface="Helvetica Neue"/>
              </a:rPr>
              <a:t>Identificar las preguntas que se deben hacer cuando se compra un automóvil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95" name="Picture 4" descr="Arrow in target bulls eye"/>
          <p:cNvPicPr/>
          <p:nvPr/>
        </p:nvPicPr>
        <p:blipFill>
          <a:blip r:embed="rId1"/>
          <a:stretch/>
        </p:blipFill>
        <p:spPr>
          <a:xfrm>
            <a:off x="8001000" y="371520"/>
            <a:ext cx="99360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Cómo funcionan los préstamos sobre el capital de la vivienda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57200" y="1600200"/>
            <a:ext cx="7238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452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Relación préstamo-valor del 80%: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$250,000 x 80% = $200,000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$250,000 (valor de la vivienda) 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$180,000 (hipoteca) 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$20,000 (valor del préstamo sobre el capital de la vivienda)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172" name="Picture 2" descr="Person in suit holding a small model of a home"/>
          <p:cNvPicPr/>
          <p:nvPr/>
        </p:nvPicPr>
        <p:blipFill>
          <a:blip r:embed="rId1"/>
          <a:stretch/>
        </p:blipFill>
        <p:spPr>
          <a:xfrm>
            <a:off x="7162920" y="1523880"/>
            <a:ext cx="1828800" cy="26179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173" name="Straight Connector 5"/>
          <p:cNvSpPr/>
          <p:nvPr/>
        </p:nvSpPr>
        <p:spPr>
          <a:xfrm>
            <a:off x="838080" y="4419720"/>
            <a:ext cx="6477120" cy="0"/>
          </a:xfrm>
          <a:prstGeom prst="line">
            <a:avLst/>
          </a:prstGeom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</a:rPr>
              <a:t>Tipos de préstamos sobre el capital de la vivienda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04560" y="1447920"/>
            <a:ext cx="8381880" cy="391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8400" indent="-33408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132f5a"/>
                </a:solidFill>
                <a:latin typeface="Helvetica Neue"/>
              </a:rPr>
              <a:t>Préstamo sobre el capital de una vivienda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lvl="1" marL="720720" indent="-277200">
              <a:spcBef>
                <a:spcPts val="64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132f5a"/>
                </a:solidFill>
                <a:latin typeface="Helvetica Neue"/>
              </a:rPr>
              <a:t>Un préstamo único con una suma específica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lvl="1" marL="720720" indent="-277200">
              <a:spcBef>
                <a:spcPts val="649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132f5a"/>
                </a:solidFill>
                <a:latin typeface="Helvetica Neue"/>
              </a:rPr>
              <a:t>Se suele ofrecer a una tasa de interés fija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marL="338400" indent="-33408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132f5a"/>
                </a:solidFill>
                <a:latin typeface="Helvetica Neue"/>
              </a:rPr>
              <a:t>Línea de crédito sobre el capital de una vivienda (HELOC)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20720" indent="-277200">
              <a:spcBef>
                <a:spcPts val="64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132f5a"/>
                </a:solidFill>
                <a:latin typeface="Helvetica Neue"/>
              </a:rPr>
              <a:t>Una línea de crédito que funciona como una tarjeta de crédito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lvl="1" marL="720720" indent="-277200">
              <a:spcBef>
                <a:spcPts val="64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32f5a"/>
                </a:solidFill>
                <a:latin typeface="Helvetica Neue"/>
              </a:rPr>
              <a:t>Las tasas de interés suelen ser variables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lvl="1" marL="720720" indent="-27720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38400" indent="-33408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38400" indent="-33408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176" name="Picture 6" descr="Circle graphic with house icon"/>
          <p:cNvPicPr/>
          <p:nvPr/>
        </p:nvPicPr>
        <p:blipFill>
          <a:blip r:embed="rId1"/>
          <a:stretch/>
        </p:blipFill>
        <p:spPr>
          <a:xfrm>
            <a:off x="7545240" y="2133720"/>
            <a:ext cx="1598760" cy="158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384120"/>
            <a:ext cx="84582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</a:rPr>
              <a:t>Tomar dinero prestado contra su casa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56840" y="114300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8400" indent="-33408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¿Cuáles son </a:t>
            </a: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las ventajas de obtener un préstamo sobre el capital de una vivienda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lvl="1" marL="720720" indent="-27720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</a:rPr>
              <a:t>Tasas de interés más bajas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20720" indent="-27720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Intereses desgravables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38400" indent="-334080">
              <a:spcBef>
                <a:spcPts val="34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Helvetica Neue"/>
            </a:endParaRPr>
          </a:p>
          <a:p>
            <a:pPr marL="338400" indent="-33408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¿Qué riesgo tiene tomar dinero prestado contra su casa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lvl="1" marL="720720" indent="-27720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Perder su casa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20720" indent="-27720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Deber más dinero </a:t>
            </a:r>
            <a:r>
              <a:rPr b="0" lang="es-ES" sz="2800" spc="-1" strike="noStrike">
                <a:solidFill>
                  <a:srgbClr val="132f5a"/>
                </a:solidFill>
                <a:latin typeface="Helvetica Neue"/>
              </a:rPr>
              <a:t>del que vale su casa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38400" indent="-334080">
              <a:spcBef>
                <a:spcPts val="79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179" name="Picture 5" descr="Icon with a figure and roofline overhead"/>
          <p:cNvPicPr/>
          <p:nvPr/>
        </p:nvPicPr>
        <p:blipFill>
          <a:blip r:embed="rId1"/>
          <a:stretch/>
        </p:blipFill>
        <p:spPr>
          <a:xfrm>
            <a:off x="7467480" y="2133720"/>
            <a:ext cx="13716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</a:rPr>
              <a:t>Derecho de rescindir/derecho de cancelar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4520">
              <a:spcBef>
                <a:spcPts val="275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Tiene 3 días para reconsiderar un acuerdo de préstamo sobre el capital de una vivienda que ha firmado y cancelar el préstamo sin penalidades cuando utiliza su hogar como garantía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182" name="Picture 5" descr="Person in thought with hand on chin"/>
          <p:cNvPicPr/>
          <p:nvPr/>
        </p:nvPicPr>
        <p:blipFill>
          <a:blip r:embed="rId1"/>
          <a:stretch/>
        </p:blipFill>
        <p:spPr>
          <a:xfrm>
            <a:off x="3736800" y="3797280"/>
            <a:ext cx="1597320" cy="184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¿Es una buena opción para usted una línea de crédito?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57200" y="1494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¿Se puede permitir los pagos mensuales después de terminar el periodo inicial o cuando las tasas de interés aumenten? 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9200"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¿Se siente cómodo con un pago hipotecario mensual fluctuante?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9200"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¿Va a invertir el capital que tiene en la vivienda en otro bien con valor a largo plazo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</a:rPr>
              <a:t>Préstamos en cuotas no asegurados </a:t>
            </a:r>
            <a:r>
              <a:rPr b="1" lang="en-US" sz="3600" spc="-1" strike="noStrike">
                <a:solidFill>
                  <a:srgbClr val="c1961c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304920" y="99072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35160" indent="-330480">
              <a:spcBef>
                <a:spcPts val="700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Préstamos usados para una variedad de gastos personales sin necesidad de una garantía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35160" indent="-330480">
              <a:spcBef>
                <a:spcPts val="700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Plazos: 1 a 5 años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35160" indent="-330480">
              <a:spcBef>
                <a:spcPts val="700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Ventajas: aprobación rápida, tasas de interés más bajas que las tasas de las tarjetas de crédito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35160" indent="-330480">
              <a:spcBef>
                <a:spcPts val="700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Inconvenientes: Tasas de interés más altas, requisitos de crédito más estrictos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35160" indent="-33048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35160" indent="-33048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Préstamos sobre reembolsos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457200" y="99072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452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Préstamos a corto plazo asegurados por el reembolso de su declaración de impuestos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Ejemplo: 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Reembolso: </a:t>
            </a: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	</a:t>
            </a: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	</a:t>
            </a: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	</a:t>
            </a: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$1,500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Costos: </a:t>
            </a: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	</a:t>
            </a: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	</a:t>
            </a: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	</a:t>
            </a: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	</a:t>
            </a:r>
            <a:r>
              <a:rPr b="0" lang="en-US" sz="2800" spc="-1" strike="noStrike" u="sng">
                <a:solidFill>
                  <a:srgbClr val="132f5a"/>
                </a:solidFill>
                <a:uFillTx/>
                <a:latin typeface="Helvetica Neue"/>
              </a:rPr>
              <a:t> - $300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Cheque para usted: </a:t>
            </a: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	</a:t>
            </a: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	</a:t>
            </a: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$1,200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9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</a:rPr>
              <a:t>Tome dinero prestado de sí mismo primero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700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Abra una </a:t>
            </a:r>
            <a:r>
              <a:rPr b="1" lang="es-ES" sz="2800" spc="-1" strike="noStrike">
                <a:solidFill>
                  <a:srgbClr val="132f5a"/>
                </a:solidFill>
                <a:latin typeface="Helvetica Neue"/>
              </a:rPr>
              <a:t>cuenta de ahorro para emergencias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9200">
              <a:spcBef>
                <a:spcPts val="700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Guarde al menos 6 meses de gastos de vida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9200">
              <a:spcBef>
                <a:spcPts val="700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132f5a"/>
                </a:solidFill>
                <a:latin typeface="Helvetica Neue"/>
              </a:rPr>
              <a:t>Considere hacer cambios pequeños y sencillos en sus hábitos y prácticas bancarias para ahorrar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191" name="Picture 4" descr="Coin falling into a piggy bank"/>
          <p:cNvPicPr/>
          <p:nvPr/>
        </p:nvPicPr>
        <p:blipFill>
          <a:blip r:embed="rId1"/>
          <a:stretch/>
        </p:blipFill>
        <p:spPr>
          <a:xfrm>
            <a:off x="3581280" y="4114800"/>
            <a:ext cx="2057400" cy="17575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Busque y compare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45600" indent="-34092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Si necesita tomar dinero prestado, revise los costos totales de dinero y la tasa APR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5600" indent="-34092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Ejemplo: 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lvl="1" marL="735480" indent="-282960">
              <a:spcBef>
                <a:spcPts val="64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32f5a"/>
                </a:solidFill>
                <a:latin typeface="Helvetica Neue"/>
              </a:rPr>
              <a:t>$75 en intereses sobre un préstamo de $500 durante 2 semanas ¡se traduce a una APR del 391%! 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lvl="1" marL="735480" indent="-282960">
              <a:spcBef>
                <a:spcPts val="64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32f5a"/>
                </a:solidFill>
                <a:latin typeface="Helvetica Neue"/>
              </a:rPr>
              <a:t>Si paga $75 por renovar o traspasar el préstamo de $500, deberá más en costos ($525) en 14 semanas que el préstamo original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marL="345600" indent="-340920">
              <a:spcBef>
                <a:spcPts val="64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</a:rPr>
              <a:t>Opciones de dinero de emergencia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Hable con su institución financiera para averiguar las opciones de préstamos (por ejemplo, una línea de crédito)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9200"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Establezca un fondo de ahorro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9200"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9200"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9200"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196" name="Picture 7" descr="Cash"/>
          <p:cNvPicPr/>
          <p:nvPr/>
        </p:nvPicPr>
        <p:blipFill>
          <a:blip r:embed="rId1"/>
          <a:stretch/>
        </p:blipFill>
        <p:spPr>
          <a:xfrm>
            <a:off x="6095880" y="3573360"/>
            <a:ext cx="2362320" cy="16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Arial"/>
              </a:rPr>
              <a:t>Objetivos</a:t>
            </a:r>
            <a:r>
              <a:rPr b="1" lang="en-US" sz="3600" spc="-1" strike="noStrike">
                <a:solidFill>
                  <a:srgbClr val="c1961c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533520" y="1143000"/>
            <a:ext cx="85341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700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132f5a"/>
                </a:solidFill>
                <a:latin typeface="Helvetica Neue"/>
              </a:rPr>
              <a:t>Explicar por qué los préstamos a plazos cuestan menos que los servicios de alquiler con opción a compra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9200">
              <a:spcBef>
                <a:spcPts val="700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132f5a"/>
                </a:solidFill>
                <a:latin typeface="Helvetica Neue"/>
              </a:rPr>
              <a:t>Explicar por qué es importante tener cuidado con los servicios de alquiler con opción a compra, los préstamos del día de pago de sueldo y los préstamos sobre reembolso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9200">
              <a:spcBef>
                <a:spcPts val="700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132f5a"/>
                </a:solidFill>
                <a:latin typeface="Helvetica Neue"/>
              </a:rPr>
              <a:t>Protegerse de las prácticas abusivas de préstamos</a:t>
            </a: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  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9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98" name="Picture 4" descr="Arrow in target bulls eye"/>
          <p:cNvPicPr/>
          <p:nvPr/>
        </p:nvPicPr>
        <p:blipFill>
          <a:blip r:embed="rId1"/>
          <a:stretch/>
        </p:blipFill>
        <p:spPr>
          <a:xfrm>
            <a:off x="8001000" y="371520"/>
            <a:ext cx="99360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Los cuatro factores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304920" y="99072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7960" indent="-323640">
              <a:spcBef>
                <a:spcPts val="751"/>
              </a:spcBef>
              <a:spcAft>
                <a:spcPts val="1800"/>
              </a:spcAft>
              <a:buClr>
                <a:srgbClr val="c196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c1961c"/>
                </a:solidFill>
                <a:latin typeface="Helvetica Neue"/>
              </a:rPr>
              <a:t>Capacidad: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 </a:t>
            </a: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sus posibilidades presentes y futuras de cumplir con sus obligaciones de pago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27960" indent="-323640">
              <a:spcBef>
                <a:spcPts val="751"/>
              </a:spcBef>
              <a:spcAft>
                <a:spcPts val="1800"/>
              </a:spcAft>
              <a:buClr>
                <a:srgbClr val="c196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c1961c"/>
                </a:solidFill>
                <a:latin typeface="Helvetica Neue"/>
              </a:rPr>
              <a:t>Capital: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 </a:t>
            </a: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el valor de sus bienes y capital neto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27960" indent="-323640">
              <a:spcBef>
                <a:spcPts val="751"/>
              </a:spcBef>
              <a:spcAft>
                <a:spcPts val="1800"/>
              </a:spcAft>
              <a:buClr>
                <a:srgbClr val="c196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c1961c"/>
                </a:solidFill>
                <a:latin typeface="Helvetica Neue"/>
              </a:rPr>
              <a:t>Reputación: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 </a:t>
            </a: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cómo han pagado sus facturas o deudas en el pasado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27960" indent="-323640">
              <a:spcBef>
                <a:spcPts val="751"/>
              </a:spcBef>
              <a:spcAft>
                <a:spcPts val="1800"/>
              </a:spcAft>
              <a:buClr>
                <a:srgbClr val="c196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c1961c"/>
                </a:solidFill>
                <a:latin typeface="Helvetica Neue"/>
              </a:rPr>
              <a:t>Garantía: </a:t>
            </a: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propiedad o bienes ofrecidos para garantizar el crédito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Leyes de protección para los consumidores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228600" y="136836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31560" indent="-327240">
              <a:spcBef>
                <a:spcPts val="275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Helvetica Neue"/>
            </a:endParaRPr>
          </a:p>
          <a:p>
            <a:pPr marL="331560" indent="-327240">
              <a:spcBef>
                <a:spcPts val="700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132f5a"/>
                </a:solidFill>
                <a:latin typeface="Helvetica Neue"/>
              </a:rPr>
              <a:t>Ley de Igualdad de Oportunidades de Crédito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31560" indent="-327240">
              <a:spcBef>
                <a:spcPts val="700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132f5a"/>
                </a:solidFill>
                <a:latin typeface="Helvetica Neue"/>
              </a:rPr>
              <a:t>Ley de Veracidad en los Préstamos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31560" indent="-327240">
              <a:spcBef>
                <a:spcPts val="700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132f5a"/>
                </a:solidFill>
                <a:latin typeface="Helvetica Neue"/>
              </a:rPr>
              <a:t>Ley de Equidad en los Informes de Crédito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31560" indent="-327240">
              <a:spcBef>
                <a:spcPts val="700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132f5a"/>
                </a:solidFill>
                <a:latin typeface="Helvetica Neue"/>
              </a:rPr>
              <a:t>Ley de Equidad en las Prácticas de Cobro de Deudas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31560" indent="-327240">
              <a:spcBef>
                <a:spcPts val="700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132f5a"/>
                </a:solidFill>
                <a:latin typeface="Helvetica Neue"/>
              </a:rPr>
              <a:t>Ley de Equidad en la Facturación de Crédito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201" name="Picture 4" descr="Bank"/>
          <p:cNvPicPr/>
          <p:nvPr/>
        </p:nvPicPr>
        <p:blipFill>
          <a:blip r:embed="rId1"/>
          <a:stretch/>
        </p:blipFill>
        <p:spPr>
          <a:xfrm>
            <a:off x="7370640" y="380880"/>
            <a:ext cx="1621080" cy="129564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6868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</a:rPr>
              <a:t>Actividad 2: Qué leyes que rigen los préstamos le protegen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4520"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Realice la Actividad 2 en la Guía para los Participantes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. 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lvl="3" marL="1828800" indent="-514440"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</a:rPr>
              <a:t>Lea la situación planteada cuidadosamente</a:t>
            </a: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3" marL="1828800" indent="-514440"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Responda a las preguntas.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3" marL="1828800" indent="-514440"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</a:rPr>
              <a:t>Esté preparado para explicar sus respuestas.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204" name="Picture 4" descr="Pencil"/>
          <p:cNvPicPr/>
          <p:nvPr/>
        </p:nvPicPr>
        <p:blipFill>
          <a:blip r:embed="rId1"/>
          <a:stretch/>
        </p:blipFill>
        <p:spPr>
          <a:xfrm>
            <a:off x="0" y="2895480"/>
            <a:ext cx="161928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Resolver reclamaciones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96440" y="1142640"/>
            <a:ext cx="84949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4520"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Escriba a la Federal Deposit Insurance Corporation (FDIC):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Explique el problema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Incluya información relevante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Envíe copias de documentos que puedan ayudar a explicar su problema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Guarde los documentos originales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Firme y feche la carta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207" name="Picture 4" descr="Figure holding a telephone handset listening to someone talk while scratching his head questioning the information received"/>
          <p:cNvPicPr/>
          <p:nvPr/>
        </p:nvPicPr>
        <p:blipFill>
          <a:blip r:embed="rId1"/>
          <a:stretch/>
        </p:blipFill>
        <p:spPr>
          <a:xfrm>
            <a:off x="7650000" y="457200"/>
            <a:ext cx="112248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6868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</a:rPr>
              <a:t>Leyes adicionales de protección para los consumidores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35160" indent="-33048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35160" indent="-330480"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Ley de Asistencia Civil para Miembros del Servicio Militar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35160" indent="-330480"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Ley de Procedimientos de Liquidación de Bienes Raíces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35160" indent="-330480"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Ley de Equidad en la Vivienda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35160" indent="-330480"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Ley de Arrendamiento para Consumidores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210" name="Picture 4" descr="Bank, coins, credit cards, and documents"/>
          <p:cNvPicPr/>
          <p:nvPr/>
        </p:nvPicPr>
        <p:blipFill>
          <a:blip r:embed="rId1"/>
          <a:stretch/>
        </p:blipFill>
        <p:spPr>
          <a:xfrm>
            <a:off x="6570720" y="3352680"/>
            <a:ext cx="1887480" cy="152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Prácticas de préstamos abusivos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Incluyen el uso de: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Ciertas tácticas de marketing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Tácticas de cobro abusivas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</a:rPr>
              <a:t>Términos de préstamos que engañan al consumidor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920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Ocurren en </a:t>
            </a: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los sectores de préstamos de hipotecas, de capital de la vivienda, tarjetas de crédito, automóviles y préstamos del día de pago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920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920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384120"/>
            <a:ext cx="86868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</a:rPr>
              <a:t>Préstamos con tasas no preferenciales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6840" y="121932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42000" indent="-34200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Implican ofrecer crédito a prestatarios con un historial crediticio negativo: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lvl="2" marL="727920" indent="-28008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</a:rPr>
              <a:t>La mayoría de los préstamos abusivos se hacen a prestatarios no preferenciales, pero no todos los préstamos no preferenciales son abusivos</a:t>
            </a: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2" marL="727920" indent="-28008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</a:rPr>
              <a:t>Tasas de interés y costos para el préstamo podrían ser más altos para compensar los costos elevados asociados a prestar dinero a estos clientes</a:t>
            </a: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</a:rPr>
              <a:t>Préstamos abusivos del día de pago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533160" y="99072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4520">
              <a:spcBef>
                <a:spcPts val="275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Pequeños adelantos de dinero menos los costos del prestamista.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Ejemplo: Acepta pagar $230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Usted recibe $200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Costos del prestamista: $30 (una APR del 390%)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9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217" name="Picture 4" descr="Hand holding cash"/>
          <p:cNvPicPr/>
          <p:nvPr/>
        </p:nvPicPr>
        <p:blipFill>
          <a:blip r:embed="rId1"/>
          <a:stretch/>
        </p:blipFill>
        <p:spPr>
          <a:xfrm>
            <a:off x="76320" y="4162320"/>
            <a:ext cx="1981080" cy="195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6868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</a:rPr>
              <a:t>Prácticas abusivas de préstamos hipotecarios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1432080"/>
            <a:ext cx="784872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4520"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Costos excesivos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Penalidades de amortización abusivas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Comisiones a agentes (como "Yield Spread Premiums")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Refinanciamiento reiterado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Productos innecesarios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Préstamos basados en activos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Dirigir y enfocar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384120"/>
            <a:ext cx="89154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</a:rPr>
              <a:t>Actividad 3: Prácticas abusivas de préstamos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4520"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Realice la Actividad 3 en la Guía para los Participantes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. 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lvl="3" marL="1828800" indent="-514440"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</a:rPr>
              <a:t>Lea la situación planteada cuidadosamente</a:t>
            </a: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3" marL="1828800" indent="-514440"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Responda a las preguntas.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3" marL="1828800" indent="-514440"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</a:rPr>
              <a:t>Esté preparado para explicar sus respuestas</a:t>
            </a: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222" name="Picture 4" descr="Pencil"/>
          <p:cNvPicPr/>
          <p:nvPr/>
        </p:nvPicPr>
        <p:blipFill>
          <a:blip r:embed="rId1"/>
          <a:stretch/>
        </p:blipFill>
        <p:spPr>
          <a:xfrm>
            <a:off x="0" y="2895480"/>
            <a:ext cx="161928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¿Qué sabe usted?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819160" y="990360"/>
            <a:ext cx="6172200" cy="426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¿Qué saben o quieren aprender sobre los préstamos en cuotas?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101" name="Picture 13" descr="Figure scratching his head and a question mark by his head"/>
          <p:cNvPicPr/>
          <p:nvPr/>
        </p:nvPicPr>
        <p:blipFill>
          <a:blip r:embed="rId1"/>
          <a:stretch/>
        </p:blipFill>
        <p:spPr>
          <a:xfrm>
            <a:off x="762120" y="1219320"/>
            <a:ext cx="1857240" cy="39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Resumen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57200" y="10666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3336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¿Qué preguntas adicionales tienen?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3336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3336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¿Qué han aprendido?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3336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3336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¿Cómo evaluarían el curso de capacitación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3336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225" name="Picture 7" descr="Clipboard and pencil"/>
          <p:cNvPicPr/>
          <p:nvPr/>
        </p:nvPicPr>
        <p:blipFill>
          <a:blip r:embed="rId1"/>
          <a:srcRect l="0" t="22003" r="0" b="0"/>
          <a:stretch/>
        </p:blipFill>
        <p:spPr>
          <a:xfrm>
            <a:off x="6705720" y="4038480"/>
            <a:ext cx="2063520" cy="16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Conclusión</a:t>
            </a: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55680" y="1041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452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Aprendieron acerca de: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</a:rPr>
              <a:t>Préstamos asegurados y no asegurados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</a:rPr>
              <a:t>El costo de los préstamos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</a:rPr>
              <a:t>Préstamos de automóvil y financiación de automóvil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</a:rPr>
              <a:t>Préstamos sobre el capital de la vivienda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</a:rPr>
              <a:t>Los cuatro factores de decisiones sobre préstamos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Prácticas de préstamos abusivos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228" name="Picture 4" descr="Cashing being passed from one person's hand to another's"/>
          <p:cNvPicPr/>
          <p:nvPr/>
        </p:nvPicPr>
        <p:blipFill>
          <a:blip r:embed="rId1"/>
          <a:stretch/>
        </p:blipFill>
        <p:spPr>
          <a:xfrm>
            <a:off x="7315200" y="380880"/>
            <a:ext cx="167652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</a:rPr>
              <a:t>¿Qué es un préstamo en cuotas?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99072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452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Un préstamo que se devuelve en pagos mensuales/cuotas iguales durante un periodo de tiempo específico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3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¿Qué artículos se pueden comprar con un préstamo en cuotas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Automóviles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Mobiliario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Computadoras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Electrodomésticos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Préstamos en cuotas asegurados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4520"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Tienen tasas de interés más bajas que los préstamos no asegurados 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Necesitan una garantía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Ejemplos: </a:t>
            </a: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hipotecas y préstamos sobre el capital de la vivienda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106" name="Picture 8" descr="Home and loan paperwork"/>
          <p:cNvPicPr/>
          <p:nvPr/>
        </p:nvPicPr>
        <p:blipFill>
          <a:blip r:embed="rId1"/>
          <a:stretch/>
        </p:blipFill>
        <p:spPr>
          <a:xfrm>
            <a:off x="3505320" y="3962520"/>
            <a:ext cx="1814400" cy="161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Garantía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987120"/>
            <a:ext cx="8229600" cy="495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9200" indent="-34920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¿Qué significa </a:t>
            </a:r>
            <a:r>
              <a:rPr b="1" i="1" lang="en-US" sz="3000" spc="-1" strike="noStrike">
                <a:solidFill>
                  <a:srgbClr val="c1961c"/>
                </a:solidFill>
                <a:latin typeface="Helvetica Neue"/>
              </a:rPr>
              <a:t>garantía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lvl="1" marL="349200" indent="-34920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Un bien que es de su propiedad y promete al prestamista si no puede devolver el préstamo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60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Si no puede pagar el préstamo y la garantía no es suficiente para cubrir el saldo, usted todavía es responsable de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lvl="1" marL="349200" indent="-34920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El saldo pendiente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349200" indent="-34920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</a:rPr>
              <a:t>Cualquier costo e interés asociado con el préstamo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</a:rPr>
              <a:t>Préstamo en cuotas no asegurado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4520"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No está asegurado por una garantía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Los estándares de los seguros son más difíciles para préstamos no asegurados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Ejemplos: préstamos personales y préstamos privados para estudiantes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111" name="Picture 4" descr="Computer monitor, morar board, and diploma"/>
          <p:cNvPicPr/>
          <p:nvPr/>
        </p:nvPicPr>
        <p:blipFill>
          <a:blip r:embed="rId1"/>
          <a:stretch/>
        </p:blipFill>
        <p:spPr>
          <a:xfrm>
            <a:off x="3352680" y="3909960"/>
            <a:ext cx="2362320" cy="21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0T18:57:27Z</dcterms:created>
  <dc:creator/>
  <dc:description/>
  <dc:language>en-US</dc:language>
  <cp:lastModifiedBy> NTI</cp:lastModifiedBy>
  <dcterms:modified xsi:type="dcterms:W3CDTF">2011-03-09T20:32:34Z</dcterms:modified>
  <cp:revision>491</cp:revision>
  <dc:subject/>
  <dc:title>MoneySmart Adult Financial Education Curriculu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DD9D08CBBCD77941A885A384DB484D68</vt:lpwstr>
  </property>
</Properties>
</file>